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CFC-ABDA-403E-A9EB-05893AD1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6F52BF6-C0DE-42BA-B84F-8E020E2320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7A0-128E-4445-8AE5-58E91132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7E8-C959-4190-9F76-BA424F6B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80-D4A3-42C8-9A9E-E80BCE45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EA5-BF0C-419B-BBC0-1731A038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FFDF-90D7-453B-8AD2-B75D5823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0E5-B402-4A49-AE39-E68A89C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95B-0E1B-4214-8D90-2E7E9C32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EE2A-C1AD-48FD-BFDC-C68DEEC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D72-4B5A-4E92-8118-3D967170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2816-624F-406F-977D-8A476A8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466-26B8-4FC0-9EE6-756FB16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3C5-339D-4AB8-AD54-DAA21A4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DFDE-95BC-4AF9-BD1B-DF609BF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233-0263-4FCA-A7E1-8E9861B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4C6-ACD2-4CFD-8DA4-A7ACD70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17A4-A901-4F9B-965B-690A4F5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82E4-9E8D-4872-BCF8-A66D6F85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71E-189E-4F8A-AD92-11040297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005-CB2A-4B0E-B712-BDD0FE95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8F3-8437-426D-BFB3-10A39EF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29B-8408-4AE5-B366-DA9EC3F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76E-DD57-4528-9936-AE32A44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45E-2455-4A6C-A6AB-FDA2C32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25C-F581-4EBC-BBD5-0453F07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ECE-D538-4A1D-9D21-66391A0F7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0" y="6066000"/>
            <a:ext cx="52056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8481960" y="613728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75564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56720" y="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532720" y="0"/>
            <a:ext cx="61128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AB0-9FD1-4642-8024-FB856F2A2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1876320"/>
            <a:ext cx="914400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FO D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0"/>
            <a:ext cx="468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40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147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Aneks “C” Prijavnog obr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Excel tabe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Mora biti priložena uz Prijavni obrazac  u štampanoj verziji, kao i u elektronskom forma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43200" y="401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8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27040" y="33336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Logički okvir kao pristu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upravljanju projekti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Pristup logičkog okvira (</a:t>
            </a:r>
            <a:r>
              <a:rPr b="0" i="1" lang="hr-HR" sz="2800" spc="-1" strike="noStrike">
                <a:solidFill>
                  <a:srgbClr val="ffffff"/>
                </a:solidFill>
                <a:latin typeface="Garamond"/>
              </a:rPr>
              <a:t>Logical Framework Approach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Analitički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Set alata 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planiranje 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upravljanje projek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Logička matrica kao jedan od proizvoda tog procesa (</a:t>
            </a:r>
            <a:r>
              <a:rPr b="0" i="1" lang="hr-HR" sz="2800" spc="-1" strike="noStrike">
                <a:solidFill>
                  <a:srgbClr val="ffffff"/>
                </a:solidFill>
                <a:latin typeface="Garamond"/>
              </a:rPr>
              <a:t>Logical Framework Matrix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Tabela koja sadrž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Hijerarhiju ciljeva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Ključne spoljne faktore koji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tiču na proje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Načine na koji će se pratiti sprovođenje i ocjenjivati proje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snove za utvrđivanje potrebnih resursa i proraču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Koraci u kreiranju matrice logi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čkog okv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tuaci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činioca – stekeh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cilj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alternati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niranje akti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52280" y="920880"/>
            <a:ext cx="21020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Opšti ci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52280" y="1987560"/>
            <a:ext cx="210204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Garamond"/>
              </a:rPr>
              <a:t>Specifič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Garamond"/>
              </a:rPr>
              <a:t>cilj</a:t>
            </a: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29560" y="1987560"/>
            <a:ext cx="213336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29560" y="3044880"/>
            <a:ext cx="213336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52280" y="4111560"/>
            <a:ext cx="2102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829560" y="4111560"/>
            <a:ext cx="2133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829560" y="5178600"/>
            <a:ext cx="21333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dusl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352600" y="914400"/>
            <a:ext cx="21020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0" y="914400"/>
            <a:ext cx="213372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2600" y="1981080"/>
            <a:ext cx="210204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k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572000" y="1981080"/>
            <a:ext cx="213372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52280" y="3044880"/>
            <a:ext cx="210204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Rezul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352600" y="3038400"/>
            <a:ext cx="210204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k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572000" y="3038400"/>
            <a:ext cx="213372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2352600" y="4105440"/>
            <a:ext cx="2102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Sredst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4572000" y="410544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Troš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828800" y="1522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7272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ffff00"/>
                </a:solidFill>
                <a:latin typeface="Garamond"/>
              </a:rPr>
              <a:t>LOGIČKI OKV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aramond"/>
              </a:rPr>
              <a:t>Sažet tabelarni prikaz projekta koji služ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Kvalitetnom i logičnom planiranju i definisanju projek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Jasnoj prezentaciji projekta (donatorima i ostalim činioci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Ocjeni kao i praćenju sprovođenja projek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OGICAL FRAMEWORK FOR TH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68360" y="944640"/>
          <a:ext cx="8229600" cy="591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 log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ly verifiable indicators of achievem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s and means of verific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objectiv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overall broader objectives to which the action will contribute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key indicators related to the overall objectiv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for these indicator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 objectiv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specific objective is the action intended to achieve to contribute to the overall objectiv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 indicators clearly show that the objective of the action has been achieved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that exist or can be collected? What are the methods required to get this information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 factors and conditions outside the Beneficiary's responsibility are necessary to achieve that objective? (external conditions) Which risks should be taken into consideration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resul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esults are the outputs envisaged to achieve the specific objective. What are the expected results? (enumerate th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indicators to measure whether and to what extent the action achieves the expected result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for these indicator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external conditions must be met to obtain the expected results on schedule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key activities to be carried out and in what sequence in order to produce the expected results? (group the activities by result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: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at are the means required to implement these activities, e. g. personnel, equipment, training, studies, supplies, operational facilities, etc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about action progress?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action costs? How are they classified? (breakdown in the Budget for the Action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pre-conditions are required before the action starts? What conditions outside the Beneficiary's direct control have to be metfor the implementation of the planned activiti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Redosljed popunjavanja logičke mat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600200"/>
            <a:ext cx="8229600" cy="4492800"/>
            <a:chOff x="457200" y="1600200"/>
            <a:chExt cx="8229600" cy="4492800"/>
          </a:xfrm>
        </p:grpSpPr>
        <p:sp>
          <p:nvSpPr>
            <p:cNvPr id="208" name=""/>
            <p:cNvSpPr/>
            <p:nvPr/>
          </p:nvSpPr>
          <p:spPr>
            <a:xfrm>
              <a:off x="66294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46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Aktivnos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46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Rezulta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6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pecifi</a:t>
              </a:r>
              <a:r>
                <a:rPr b="1" lang="sr-Latn-BA" sz="1800" spc="-1" strike="noStrike">
                  <a:solidFill>
                    <a:srgbClr val="ffffff"/>
                  </a:solidFill>
                  <a:latin typeface="Garamond"/>
                </a:rPr>
                <a:t>čni cilj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94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146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pšti ciljev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1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94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Pretpostav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Izvori provj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bjektivno provjerljivi indikato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pis projek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3419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432576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52308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60930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600200"/>
              <a:ext cx="0" cy="4492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146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86800" y="1600200"/>
              <a:ext cx="0" cy="4492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68360" y="3429000"/>
            <a:ext cx="2016000" cy="792000"/>
          </a:xfrm>
          <a:prstGeom prst="rect">
            <a:avLst/>
          </a:prstGeom>
          <a:solidFill>
            <a:srgbClr val="3366ff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5300640"/>
            <a:ext cx="2016000" cy="792360"/>
          </a:xfrm>
          <a:prstGeom prst="rect">
            <a:avLst/>
          </a:prstGeom>
          <a:solidFill>
            <a:srgbClr val="0000ff">
              <a:alpha val="1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437000"/>
            <a:ext cx="2016000" cy="792360"/>
          </a:xfrm>
          <a:prstGeom prst="rect">
            <a:avLst/>
          </a:prstGeom>
          <a:solidFill>
            <a:srgbClr val="7b46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7280" y="2565360"/>
            <a:ext cx="1873440" cy="792360"/>
          </a:xfrm>
          <a:prstGeom prst="rect">
            <a:avLst/>
          </a:prstGeom>
          <a:solidFill>
            <a:srgbClr val="45c984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7280" y="3500280"/>
            <a:ext cx="1873440" cy="720720"/>
          </a:xfrm>
          <a:prstGeom prst="rect">
            <a:avLst/>
          </a:prstGeom>
          <a:solidFill>
            <a:srgbClr val="45c984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4437000"/>
            <a:ext cx="1873440" cy="720720"/>
          </a:xfrm>
          <a:prstGeom prst="rect">
            <a:avLst/>
          </a:prstGeom>
          <a:solidFill>
            <a:srgbClr val="45c984">
              <a:alpha val="7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2565360"/>
            <a:ext cx="1873440" cy="79236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3500280"/>
            <a:ext cx="1873440" cy="72072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4437000"/>
            <a:ext cx="1873440" cy="720720"/>
          </a:xfrm>
          <a:prstGeom prst="rect">
            <a:avLst/>
          </a:prstGeom>
          <a:solidFill>
            <a:srgbClr val="ffcc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500280"/>
            <a:ext cx="1873080" cy="720720"/>
          </a:xfrm>
          <a:prstGeom prst="rect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32720" y="4437000"/>
            <a:ext cx="1873080" cy="720720"/>
          </a:xfrm>
          <a:prstGeom prst="rect">
            <a:avLst/>
          </a:prstGeom>
          <a:solidFill>
            <a:srgbClr val="ff00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720" y="5300640"/>
            <a:ext cx="1873080" cy="720720"/>
          </a:xfrm>
          <a:prstGeom prst="rect">
            <a:avLst/>
          </a:prstGeom>
          <a:solidFill>
            <a:srgbClr val="ff0000">
              <a:alpha val="8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5840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Hvala i sre</a:t>
            </a:r>
            <a:r>
              <a:rPr b="1" lang="sr-Latn-BA" sz="5400" spc="-1" strike="noStrike">
                <a:solidFill>
                  <a:srgbClr val="ffff00"/>
                </a:solidFill>
                <a:latin typeface="Garamond"/>
              </a:rPr>
              <a:t>ćno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MithatBahovic</cp:lastModifiedBy>
  <dcterms:modified xsi:type="dcterms:W3CDTF">2009-07-15T12:40:11Z</dcterms:modified>
  <cp:revision>114</cp:revision>
  <dc:subject/>
  <dc:title>Slide 1</dc:title>
</cp:coreProperties>
</file>